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7369-F571-4F0A-8431-55780DF6B5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етарна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дитно-денежная) полити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акроэкономика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ая аттеста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теля группы Э-1/07 специальности «Экономика» Груздовой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4C92-063B-40DC-9120-6FE705052D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менение нормы обязательных резерв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0777-17AA-423C-9254-F54ABF9585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менение учет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57E5-8850-44DF-B509-795873C683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ерации на открытом рынк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ка и продажа государственных ценных бумаг на вторичных рынках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7C3C-4BC6-4988-8DB1-6322182845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перации на открытом рын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аж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меньш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куп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ых ценных бумаг Центральным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величению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4FB1-BD23-4CEA-8E1B-886A185A41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ложить день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ы до востреб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кла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ликвидность, но невысокая дохо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Высокая дохо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о низкая ликви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 чего зависит решение владельцев денег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4AD3-0585-4A1F-A5F2-AFC52C762F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ладельцев денег зависит от величины рыночной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денег, которая зависит от спроса и предложения денег на денежн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06ED-F243-4160-9D4D-19046AFBF6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 на денежном рынке под влиянием монетарной полит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3E60-10D1-47E6-B0AF-10D156246D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держивающе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3CC8-F740-4E5E-B3EC-F03979687F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предложения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6488-C156-4AAD-9C79-69A68184F5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ую политику Центрального банка принято называть стимулирующ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0FC8-603D-4078-96F1-10FD069A2C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AB0A-998F-4ABF-9750-338725D31C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цен подталкивает фирмы к увеличению выпу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этому такая монетарная политика называется стимулиру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= C+I+G+X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7F4C-E142-42CC-9EDF-E33A578EB4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 механизм денежной трансмиссии можно показать т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A3C1-56A7-41BD-8C02-FCC5CEBDF8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money transmission mechan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денег воздействует на рыночную ставку проц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64F1-F280-43A9-A2A0-CD3D59180E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й комплек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 для преподавателе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ся в соответствии с программой факультета довузовской подготовки ГУ-ВШ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2F78-0F7F-425C-BF02-B741C56E91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ка из программы ГУ-ВШЭ для слушателей подготовительных курсов и базовы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(денежно-кредитная поли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политика, ее цели и целевые ориентиры. Роль центрального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денег. Предложение и спрос на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D904-624F-4BA4-8FA2-0F1AB75C57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ели изучения 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ление знаний о механизме взаимодействия коммерческих и Центрального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7127-979B-4219-AFEF-E6FA230C9E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результате изучения темы учащиеся долж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стимулирующую и сдерживающую монетарную полити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ть возможные последствия тех или иных мер Центроба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полученные знания для анализа конкретной эконом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79FF-3D6A-4A6A-A642-CA454223CF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такое монетарная полит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ИТИКА КРЕДИТНО-ДЕНЕЖНА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нетарная полити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арь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е и финан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698B-9397-4108-9226-43B09D5E9C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нета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и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етарную политику определяет и осуществляе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нтральный б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регулированию денежного рынка с целью стабил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FC88-4313-4EB0-A136-DBA10691F5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монетар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С помощью этих инструментов Центральный банк может воздействовать на денежную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нормы обязательных резер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учетной ставки процента (ставки рефинанс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на открытом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35CF-E333-443B-A817-AC678ACF60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D42-74E4-49EA-BC11-7289BA71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697-C6A9-4A28-AB5A-64516E72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506-A262-4DA0-A923-0B776C90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33B-75B8-4D80-8539-53F957E4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D201-B233-48EF-93EA-36E4247A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A04E-18A6-4496-A972-FED2C51C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1A9-60AC-4107-B936-E4CC0170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8B13-EB72-451D-ACD0-8A85483E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344E-2B63-42D1-8125-84708F8E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B3D2-7E34-40E8-B636-7861D344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42DE-0FBE-4573-928E-B35B75BD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077-D147-42DB-8C31-45A0E26F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C97B-2992-4FF7-9B46-23CA15E5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8A37-62DB-4D18-B0CB-976B0B76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2526-B7AB-4074-A696-EDF0E1B9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3CC5-F0C1-4DD1-BC1C-525D9F6C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FF25-7271-420F-8597-97D4CCF9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197-F837-4656-96E6-3E4CD0A3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4B5-C161-46FE-8699-FC106223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784-E625-46BA-AF3B-D9A73E57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EC3-9F94-4457-B7D0-6CBAE8F3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FFF-EAAE-4AE7-AD63-A15A0DB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4C5-3CD3-466D-9467-31ACD9CA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2A9-527D-4B61-813C-9ADDA88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D11A-FF67-4A6C-8BC9-1DE6E38FCE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8C48-F1C5-422C-9A95-AFB66AD0FB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Монетарная 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кредитно-денежная) политика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Макроэкономика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Arial Black"/>
              </a:rPr>
              <a:t>11 класс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71640" y="429264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кная аттестацион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шателя группы Э-1/07 специальности «Экономика» Груздовой Т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Изменение нормы обязательных резерв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324036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нормы обязательных резервов ведет к уменьшению банковского мультипликатора: денежная масса сокращ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35280" y="1916280"/>
            <a:ext cx="3384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ижение нормы обязательных резервов ведет к увеличению банковского мультипликатора: денежная масса увеличи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 flipV="1">
            <a:off x="0" y="3141360"/>
            <a:ext cx="9144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3635280" y="4941720"/>
                <a:ext cx="208764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l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ан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2. Изменение учетной ставки процен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учетной ставки процента ведет к уменьш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кредитных возможностей банков ведет к мультипликативному сжат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жение учетной ставки процента ведет к увеличению избыточных резервов коммерческих бан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кредитных возможностей банков ведет к мультипликативному расширению денежной м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3. Операции на открытом рынке – это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купка и продажа государственных ценных бумаг на вторичных рынках ценных бума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перации на открытом рынке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816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одаж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меньш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куп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сударственных ценных бумаг Центральным бан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увеличению предложения де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349236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а вложить день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560" y="1905120"/>
            <a:ext cx="374508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ы до вос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76720" y="1905120"/>
            <a:ext cx="345600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чные вкла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ные бумаги (акции, облига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560" y="3428640"/>
            <a:ext cx="3745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ликвидность, но невысокая дохо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03640" y="3499920"/>
            <a:ext cx="38563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Высокая доход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b7"/>
                </a:solidFill>
                <a:latin typeface="Arial"/>
              </a:rPr>
              <a:t>но низкая ликвид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1640" y="5013360"/>
            <a:ext cx="72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чего зависит решение владельцев дене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центная ставка - эт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36160" y="4941720"/>
            <a:ext cx="8007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а денег, которая зависит от спроса и предложения денег на денежном ры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333000"/>
            <a:ext cx="80071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 владельцев денег зависит от величины рыночной процентной ста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40960" y="260280"/>
            <a:ext cx="830268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то происходит на денежном рынке под влиянием монетарной политики?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5" descr="Рис"/>
          <p:cNvPicPr/>
          <p:nvPr/>
        </p:nvPicPr>
        <p:blipFill>
          <a:blip r:embed="rId1"/>
          <a:stretch/>
        </p:blipFill>
        <p:spPr>
          <a:xfrm>
            <a:off x="826920" y="1916280"/>
            <a:ext cx="6121440" cy="4464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465264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держивающей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475920"/>
            <a:ext cx="7632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результате мер монетарной политики денежная масса сокращается, рыночная ставка процента раст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80071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вышение ставки процента приводит к удорожанию кредитов и сдерживанию роста инвестиционных расходов и потреб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величение предложения денег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48360" y="4221000"/>
            <a:ext cx="968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692360" y="1852560"/>
            <a:ext cx="6048360" cy="4730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4797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Такую политику Центрального банка принято называть стимулирующе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36160" y="2420640"/>
            <a:ext cx="80074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Понижение ставки процента стимулирует инвестиционные расходы фирм и потребительские расходы, а это ведет к увеличению совокупного спр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333360"/>
            <a:ext cx="80071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величение денежной массы в результате мер Центрального банка приводит к понижению рыночной ставки проц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 работы: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чебно-методического комплекса по теме «Монетарная политика» для классов с углубленным изучением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71280" y="1988640"/>
            <a:ext cx="8172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озросли инвестиционные расходы фирм или потребительские расходы граждан, то совокупный спрос увеличив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цен подталкивает фирмы к увеличению выпу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Поэтому такая монетарная политика называется стимулирующ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7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окупный спрос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10920" y="1196640"/>
            <a:ext cx="39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= C+I+G+X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712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чески механизм денежной трансмиссии можно показать та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РИс"/>
          <p:cNvPicPr/>
          <p:nvPr/>
        </p:nvPicPr>
        <p:blipFill>
          <a:blip r:embed="rId1"/>
          <a:srcRect l="-4451" t="-1939" r="24707" b="14587"/>
          <a:stretch/>
        </p:blipFill>
        <p:spPr>
          <a:xfrm>
            <a:off x="1692360" y="1989000"/>
            <a:ext cx="3889440" cy="31957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16000" y="4941360"/>
            <a:ext cx="76471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Этот механизм называется </a:t>
            </a:r>
            <a:r>
              <a:rPr b="1" i="1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механизмом денежной трансмиссии </a:t>
            </a:r>
            <a:r>
              <a:rPr b="1" i="1" lang="ru-RU" sz="2800" spc="-1" strike="noStrike">
                <a:solidFill>
                  <a:srgbClr val="ffffb7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b7"/>
                </a:solidFill>
                <a:latin typeface="Arial"/>
              </a:rPr>
              <a:t>money transmission mechan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280" y="47628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монетарной политики происходит изменение предложения денег в эконом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предложения денег воздействует на рыночную ставку проц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ставки процента приводит либо к росту совокупного спроса, либо к его уменьш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Учебно-методический комплекс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назначен для преподавателей экономи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ся в соответствии с программой факультета довузовской подготовки ГУ-ВШЭ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ируется на использование учебных пособий для школ с углубленным изучением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ыписка из программы ГУ-ВШЭ для слушателей подготовительных курсов и базовых школ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6160" y="2060640"/>
            <a:ext cx="7683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(денежно-кредитная полити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етарная политика, ее цели и целевые ориентиры. Роль центрального ба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менты монетарной политики. Операции на открытом рынке с государственными ценными бумагами. Изменение нормы обязательных банковских резервов. Изменение ставки рефинансирования (учетной ставки процента). Центральный банк как кредитор коммерческих бан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ынок денег. Предложение и спрос на день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мулирующая и сдерживающая монетарная политика. Воздействие монетарной политики на совокупный спро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Цели изучения темы: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9360" y="177336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убление знаний о механизме взаимодействия коммерческих и Центрального бан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редставлений о монетарной политике, о целях и способах ее осущест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владение знаниями о целях и способах регулирования денежного рынка с помощью банковской сис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 результате изучения темы учащиеся долж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215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и описывать понятия: «монетарная политика», «норма обязательных резервов», «ставка рефинансирования», «операции на открытом рынке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и объяснять, как политика Центробанка воздействует на макроэкономическую ситуац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ть стимулирующую и сдерживающую монетарную полити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ть возможные последствия тех или иных мер Центробан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 полученные знания для анализа конкретной экономической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03280" y="486900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1640" y="1844640"/>
            <a:ext cx="77040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ИТИКА КРЕДИТНО-ДЕНЕЖНАЯ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проводимые правительством страны, государством меры, определяющие величину денежного предложения, массу денег в стране, процентные ставки кредитования, объем кредитов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экономический словар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етарная политик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- инструмент, при помощи которого правительства стараются воздействовать на макроэкономические условия, увеличивая или уменьшая денежную массу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ловарь п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ке и финанс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Что такое монетарная политик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Монетарная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олитика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это..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4797360"/>
            <a:ext cx="795672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онетарную политику определяет и осуществляет </a:t>
            </a:r>
            <a:r>
              <a:rPr b="0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нтральный бан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36160" y="1844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ры по регулированию денежного рынка с целью стабилизации экономи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000" y="4797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b7"/>
                </a:solidFill>
                <a:latin typeface="Arial"/>
              </a:rPr>
              <a:t>С помощью этих инструментов Центральный банк может воздействовать на денежную мас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нструменты монетарной политик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нормы обязательных резер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е учетной ставки процента (ставки рефинансиров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и на открытом рын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1:02:20Z</dcterms:created>
  <dc:creator>Ur.Gr.</dc:creator>
  <dc:description/>
  <dc:language>en-US</dc:language>
  <cp:lastModifiedBy>LEGION</cp:lastModifiedBy>
  <dcterms:modified xsi:type="dcterms:W3CDTF">2014-11-07T13:45:36Z</dcterms:modified>
  <cp:revision>23</cp:revision>
  <dc:subject/>
  <dc:title>Монетарная (кредитно-денежная) политика</dc:title>
</cp:coreProperties>
</file>